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26C-3F21-4D61-8E50-7E2E81E4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EDA-0A71-4A61-A71C-446491DC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A7A-C55F-40C1-ACCF-6290E344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A92-AEBB-4BFB-9B8B-B9A4E7F3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69D-EE28-4AB4-9150-5F9DA0C8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BDD-44BE-4F51-B7F3-89609EB2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931-017D-4F26-88A9-389D1BBD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59E-4348-495D-BACD-C917F288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B78-430E-409F-8544-724C71AA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36C-DEFD-4933-B044-71B3FD6B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0D3-3630-4664-8F4E-04658953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FBC-77B9-4BA8-9E10-64DECA76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D43C-0F14-49A5-9F99-763BBE7EF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Rikki Donachie, Robert J. Lang, and Joseph Wu Origam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Matthew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Robert J. Lang Origam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5800" y="1422360"/>
            <a:ext cx="966132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1520" y="1219320"/>
            <a:ext cx="3952800" cy="257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84880" y="1219320"/>
            <a:ext cx="4002120" cy="281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360" y="4330800"/>
            <a:ext cx="3948120" cy="28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486400" y="4564080"/>
            <a:ext cx="37656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706752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8520" y="1116000"/>
            <a:ext cx="4695840" cy="2976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01600" y="1116000"/>
            <a:ext cx="44067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Joseph Wu Origam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4440240" cy="3405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50515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90360" y="11160"/>
            <a:ext cx="5195880" cy="548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486400" y="-101520"/>
            <a:ext cx="4381560" cy="4270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181480" y="3454560"/>
            <a:ext cx="50086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Rikki Donachie Origam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17440" y="1015920"/>
            <a:ext cx="4543560" cy="26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759120"/>
            <a:ext cx="2960640" cy="389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946240" y="3556080"/>
            <a:ext cx="7193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0680" y="4368960"/>
            <a:ext cx="9173880" cy="3065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14400" y="3240"/>
            <a:ext cx="91630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